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8DD-ADA1-4444-8C99-6A24CEE4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99D-CEB6-4BF1-BCC7-E8135156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738-36AB-4509-9DBC-461B15C5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630-8BEF-4163-9D0D-BD2948FD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D1E2-26F3-447E-9B3A-13A4A3DF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C265-4D20-4AFE-94E9-A6DA7B76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A109-156C-49A5-A3E6-68604279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A56B-4F81-4A61-B056-91FD0B5E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15A2-76DA-4DEC-8A64-EA3E6AD7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200D-8DC9-4CEA-9FB0-A4FBAA51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07E3-D5BB-43C4-83B6-60609C8A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FBD-9B2C-489B-AC84-24B16DD2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601C-AA7C-42DF-B1CD-52A87EEA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033B-B3C2-48B2-B5FB-2E0A8432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6E28-0B3A-435A-B859-96C056CC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3A90-3705-4441-8417-2FD5DD77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5B05-0F5A-4A85-AF5E-29BB9AF3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140-0B47-4D54-82CA-088BE958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093-A3B7-41A2-B3EA-B795296E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A2C-6120-4D4D-8260-C094DDE0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A96-9B3E-41C6-ADD6-D66AED28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C30-C47A-42BF-865B-629EA3CF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80B-B0F2-4664-8943-C774A41A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D89-88A9-45C4-A9B3-FCB115BD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A759-4F42-4BF0-AA32-2AACCEFBBFF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7699-7175-4E70-A08E-8622D8E94FD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Only book she ever wro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Won the Pulitzer Priz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3. Is semi-biographical, based on her childhood in Alaba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. The character of Dill is based on her real life-childhood friend, Truman Capote, who went on to become a famous writer himself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38080" y="1752480"/>
            <a:ext cx="4419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student</cp:lastModifiedBy>
  <dcterms:modified xsi:type="dcterms:W3CDTF">2010-12-15T19:31:18Z</dcterms:modified>
  <cp:revision>30</cp:revision>
  <dc:subject/>
  <dc:title>To Kill a Mockingbird</dc:title>
</cp:coreProperties>
</file>